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3AE0-BC5F-49C2-8DE0-2C9D6004A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64F0-72D6-4648-981F-B4F6D3AF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81D9-3AED-423E-87F6-F661F9EA9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729F-F84D-4E54-AAC8-53897E814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BB92-3D70-48C3-A12D-522E9E379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DF8F-72FC-449A-AC0F-D5F7DEA8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0AAD-66E8-4CE2-9C53-8F85CC94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AB7E-865E-4FD7-8176-9E9209B5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D079-7A5F-4B84-A0AC-DB65C990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3B54-302D-4B15-BEFB-CDB2753D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9F34-01CB-4449-8D85-935DDA81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D741-2683-4413-81DB-46F07100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EA9C-A50A-4BF3-AC73-CC8132DF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F1AB-D0B2-4A64-856F-A99BEBF1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B494-DB4E-4A76-9CF4-872A1BFE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1FA2-3248-4C20-91BB-A9E67CED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1E74-787A-4F3C-A010-20C8A604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230C-3F79-46A5-BDE5-EB020398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BAEA-C2F5-4F7E-8F91-BC1247ED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75AB-631D-4085-AC07-107F9980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C47C-1D2D-4070-9367-4189A9A2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1B1F-BF2C-4338-8D42-482ECA32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4C30-0642-4CFE-8223-F31F9BDA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8CE7-3D65-4876-B4E4-FFEC7E2A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304920"/>
            <a:ext cx="8305920" cy="1295280"/>
            <a:chOff x="457200" y="304920"/>
            <a:chExt cx="8305920" cy="1295280"/>
          </a:xfrm>
        </p:grpSpPr>
        <p:sp>
          <p:nvSpPr>
            <p:cNvPr id="1" name="AutoShape 3"/>
            <p:cNvSpPr/>
            <p:nvPr/>
          </p:nvSpPr>
          <p:spPr>
            <a:xfrm>
              <a:off x="457200" y="3049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3960" y="3888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14240" y="5428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 flipV="1">
              <a:off x="647640" y="10663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5905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7712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76B9-E17F-4CF8-8BD6-0A5573E6ADE6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6"/>
          <p:cNvGrpSpPr/>
          <p:nvPr/>
        </p:nvGrpSpPr>
        <p:grpSpPr>
          <a:xfrm>
            <a:off x="457200" y="2362320"/>
            <a:ext cx="8305920" cy="1295280"/>
            <a:chOff x="457200" y="2362320"/>
            <a:chExt cx="8305920" cy="1295280"/>
          </a:xfrm>
        </p:grpSpPr>
        <p:sp>
          <p:nvSpPr>
            <p:cNvPr id="48" name="AutoShape 7"/>
            <p:cNvSpPr/>
            <p:nvPr/>
          </p:nvSpPr>
          <p:spPr>
            <a:xfrm>
              <a:off x="457200" y="23623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8"/>
            <p:cNvSpPr/>
            <p:nvPr/>
          </p:nvSpPr>
          <p:spPr>
            <a:xfrm>
              <a:off x="501480" y="24004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723960" y="24462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714240" y="26002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 flipV="1">
              <a:off x="647640" y="31237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F5DE-819E-4070-A225-CAF9B7A97D62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mplifying Rational Expres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Fac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4"/>
          <p:cNvGraphicFramePr/>
          <p:nvPr/>
        </p:nvGraphicFramePr>
        <p:xfrm>
          <a:off x="2503440" y="2438280"/>
          <a:ext cx="4356000" cy="22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3440" y="2438280"/>
                    <a:ext cx="4356000" cy="22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2124000" y="2438280"/>
          <a:ext cx="5116680" cy="22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438280"/>
                    <a:ext cx="5116680" cy="22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4"/>
          <p:cNvGraphicFramePr/>
          <p:nvPr/>
        </p:nvGraphicFramePr>
        <p:xfrm>
          <a:off x="2124000" y="2438280"/>
          <a:ext cx="5116680" cy="22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438280"/>
                    <a:ext cx="5116680" cy="22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1951200" y="2438280"/>
          <a:ext cx="5462280" cy="22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1200" y="2438280"/>
                    <a:ext cx="5462280" cy="22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2295360" y="2438280"/>
          <a:ext cx="4772160" cy="22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5360" y="2438280"/>
                    <a:ext cx="4772160" cy="22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2917800" y="2438280"/>
          <a:ext cx="3527280" cy="22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7800" y="2438280"/>
                    <a:ext cx="3527280" cy="22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view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ce of 2 Squares:  (   +   )(    -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ess and Check:  Multiply to get last number and add to get middl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eck List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out a GCF (if possi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using difference of 2 squares or guess and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l like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4"/>
          <p:cNvGraphicFramePr/>
          <p:nvPr/>
        </p:nvGraphicFramePr>
        <p:xfrm>
          <a:off x="3505320" y="2438280"/>
          <a:ext cx="2349360" cy="22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438280"/>
                    <a:ext cx="2349360" cy="22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2814480" y="2506680"/>
          <a:ext cx="3730680" cy="21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4480" y="2506680"/>
                    <a:ext cx="373068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2262240" y="2438280"/>
          <a:ext cx="4836960" cy="22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2240" y="2438280"/>
                    <a:ext cx="4836960" cy="22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3090960" y="2506680"/>
          <a:ext cx="3179520" cy="21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0960" y="2506680"/>
                    <a:ext cx="317952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2538360" y="2438280"/>
          <a:ext cx="4286160" cy="22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38360" y="2438280"/>
                    <a:ext cx="4286160" cy="22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1743120" y="2370240"/>
          <a:ext cx="5877000" cy="24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3120" y="2370240"/>
                    <a:ext cx="5877000" cy="24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4:44:13Z</dcterms:created>
  <dc:creator>Parkland School District</dc:creator>
  <dc:description/>
  <dc:language>en-US</dc:language>
  <cp:lastModifiedBy>test</cp:lastModifiedBy>
  <dcterms:modified xsi:type="dcterms:W3CDTF">2015-05-08T12:00:11Z</dcterms:modified>
  <cp:revision>3</cp:revision>
  <dc:subject/>
  <dc:title>Simplifying Rational Expressions</dc:title>
</cp:coreProperties>
</file>